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82872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数 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352260"/>
          <p:cNvSpPr/>
          <p:nvPr/>
        </p:nvSpPr>
        <p:spPr>
          <a:xfrm>
            <a:off x="520920" y="4384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52261"/>
          <p:cNvSpPr/>
          <p:nvPr/>
        </p:nvSpPr>
        <p:spPr>
          <a:xfrm>
            <a:off x="3544920" y="472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959120" y="3573360"/>
            <a:ext cx="34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588320" y="39639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62500"/>
          <p:cNvSpPr/>
          <p:nvPr/>
        </p:nvSpPr>
        <p:spPr>
          <a:xfrm>
            <a:off x="611280" y="1557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国青少年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）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8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平均身高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均身高增长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我国青少年平均身高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62501"/>
          <p:cNvSpPr/>
          <p:nvPr/>
        </p:nvSpPr>
        <p:spPr>
          <a:xfrm>
            <a:off x="6588000" y="1944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6280" y="2133720"/>
            <a:ext cx="86677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63523"/>
          <p:cNvSpPr/>
          <p:nvPr/>
        </p:nvSpPr>
        <p:spPr>
          <a:xfrm>
            <a:off x="0" y="6021360"/>
            <a:ext cx="58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感悟字母可以表示一定范围的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30240" y="2349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出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68240" y="427500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枝”是多少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47640" y="46879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数学的方法怎样表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550880" y="5100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个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枝大概在什么范围之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95440" y="5516640"/>
            <a:ext cx="29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刚才你们用那么多的字母表示了“数枝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你们用字母表示的是怎样的一个数？（未知数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8880" y="2112840"/>
            <a:ext cx="5718240" cy="2160720"/>
            <a:chOff x="1658880" y="2112840"/>
            <a:chExt cx="5718240" cy="2160720"/>
          </a:xfrm>
        </p:grpSpPr>
        <p:pic>
          <p:nvPicPr>
            <p:cNvPr id="51" name="图片 354313" descr="梅花"/>
            <p:cNvPicPr/>
            <p:nvPr/>
          </p:nvPicPr>
          <p:blipFill>
            <a:blip r:embed="rId2"/>
            <a:stretch/>
          </p:blipFill>
          <p:spPr>
            <a:xfrm>
              <a:off x="1658880" y="2112840"/>
              <a:ext cx="3365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文本框 354314"/>
            <p:cNvSpPr/>
            <p:nvPr/>
          </p:nvSpPr>
          <p:spPr>
            <a:xfrm>
              <a:off x="4676760" y="2133360"/>
              <a:ext cx="27003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梅 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宋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王安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墙角数枝梅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凌寒独自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遥知不是雪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为有暗香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354315"/>
          <p:cNvSpPr/>
          <p:nvPr/>
        </p:nvSpPr>
        <p:spPr>
          <a:xfrm>
            <a:off x="5256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995640" y="1557360"/>
            <a:ext cx="62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理解字母可以表示不固定数中的一个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55640" y="3645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几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547640" y="414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底是几 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013840" y="4653000"/>
            <a:ext cx="23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它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同时还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4360" y="2708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出示：（  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  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55335"/>
          <p:cNvSpPr/>
          <p:nvPr/>
        </p:nvSpPr>
        <p:spPr>
          <a:xfrm>
            <a:off x="520920" y="43848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55336"/>
          <p:cNvSpPr/>
          <p:nvPr/>
        </p:nvSpPr>
        <p:spPr>
          <a:xfrm>
            <a:off x="736920" y="46004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26880" y="1528920"/>
            <a:ext cx="8498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用含有字母的式子表示数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8040" y="4346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时，爸爸多少岁？小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时，爸爸多少岁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还能继续写下去吗？能写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390680" y="484668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说这么多，一定是发现了什么？说说吧！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90680" y="5421240"/>
            <a:ext cx="694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像这样写下去，每行都只能表示某一年小红的年龄和爸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年龄，能不能用一种简明的方式表示出任何一年小红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龄和爸爸的年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56358" descr="72"/>
          <p:cNvPicPr/>
          <p:nvPr/>
        </p:nvPicPr>
        <p:blipFill>
          <a:blip r:embed="rId2"/>
          <a:stretch/>
        </p:blipFill>
        <p:spPr>
          <a:xfrm>
            <a:off x="2124000" y="2133720"/>
            <a:ext cx="5595840" cy="2160360"/>
          </a:xfrm>
          <a:prstGeom prst="rect">
            <a:avLst/>
          </a:prstGeom>
          <a:ln w="0">
            <a:noFill/>
          </a:ln>
        </p:spPr>
      </p:pic>
      <p:sp>
        <p:nvSpPr>
          <p:cNvPr id="68" name="矩形 356359"/>
          <p:cNvSpPr/>
          <p:nvPr/>
        </p:nvSpPr>
        <p:spPr>
          <a:xfrm>
            <a:off x="37656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56360"/>
          <p:cNvSpPr/>
          <p:nvPr/>
        </p:nvSpPr>
        <p:spPr>
          <a:xfrm>
            <a:off x="592200" y="4005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9640" y="162864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提示：学生独立思考后，投影展示表示方法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50560" y="2225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是怎么想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0280" y="263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      小红的年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    爸爸的年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103120" y="4292640"/>
            <a:ext cx="41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样表示能不能概括出小红和爸爸年龄之间的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064240" y="4768920"/>
            <a:ext cx="29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什么？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表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4360" y="2349360"/>
            <a:ext cx="770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刚才有同学是这样表示的，你们看了有什么想法吗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55360" y="1773360"/>
            <a:ext cx="15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出示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160720" y="2708280"/>
            <a:ext cx="31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可以表示哪些数？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087640" y="3144960"/>
            <a:ext cx="28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都可以表示哪些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441440" y="3527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刚才说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（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可以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能不能说小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时爸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？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241360" y="4302000"/>
            <a:ext cx="31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，爸爸的年龄是多少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50920" y="1413000"/>
            <a:ext cx="965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再次感知含有字母的式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2199960" y="2708280"/>
            <a:ext cx="45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爸爸的年龄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，那女儿的年龄应该怎样表示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2784960" y="3141720"/>
            <a:ext cx="44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里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前面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同吗？既然两个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的含义不相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同一事件中为了避免混淆我们可以用不同的字母表示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含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50920" y="155736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五）沟通联系 提升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60360" y="5446800"/>
            <a:ext cx="799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273400" y="2421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通过前面的学习我们可以发现，我们可以尝试着用字母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含有字母的式子来表示一个数或表示数量关系。含有字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式子不仅可以表示数量之间的关系还可以表示一个量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种表示的方法简单而且概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61473"/>
          <p:cNvSpPr/>
          <p:nvPr/>
        </p:nvSpPr>
        <p:spPr>
          <a:xfrm>
            <a:off x="1258920" y="3141720"/>
            <a:ext cx="56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含有字母的式子表示出成年男子的标准体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你能用它算出你爸爸的标准体重应是多少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400480" y="4867200"/>
            <a:ext cx="34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902960" y="5280120"/>
            <a:ext cx="21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61477"/>
          <p:cNvSpPr/>
          <p:nvPr/>
        </p:nvSpPr>
        <p:spPr>
          <a:xfrm>
            <a:off x="1783080" y="155736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成年男子的标准体重通常用下面的式子表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61478"/>
          <p:cNvSpPr/>
          <p:nvPr/>
        </p:nvSpPr>
        <p:spPr>
          <a:xfrm>
            <a:off x="2816640" y="2363760"/>
            <a:ext cx="1712160" cy="368280"/>
          </a:xfrm>
          <a:prstGeom prst="rect">
            <a:avLst/>
          </a:prstGeom>
          <a:solidFill>
            <a:srgbClr val="ff99cc"/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准体重＝身高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女天使"/>
          <p:cNvPicPr/>
          <p:nvPr/>
        </p:nvPicPr>
        <p:blipFill>
          <a:blip r:embed="rId2"/>
          <a:stretch/>
        </p:blipFill>
        <p:spPr>
          <a:xfrm>
            <a:off x="7446960" y="191448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7"/>
          <p:cNvSpPr/>
          <p:nvPr/>
        </p:nvSpPr>
        <p:spPr>
          <a:xfrm>
            <a:off x="5214960" y="2006640"/>
            <a:ext cx="2200320" cy="934920"/>
          </a:xfrm>
          <a:prstGeom prst="wedgeRoundRectCallout">
            <a:avLst>
              <a:gd name="adj1" fmla="val 58439"/>
              <a:gd name="adj2" fmla="val 440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身高用厘米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重用千克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361481"/>
          <p:cNvSpPr/>
          <p:nvPr/>
        </p:nvSpPr>
        <p:spPr>
          <a:xfrm>
            <a:off x="1384200" y="4019400"/>
            <a:ext cx="520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1:47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